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AEC4-E55C-4D06-B767-080E1168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51D-9B30-49BE-B22B-E543D675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31F1F-5F37-4927-B6A1-008BA8F0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BE5E7-FEB6-405F-A97D-B58FE50A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35818-EC1D-4F18-ACB3-2D58FC46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5EF38-4CB5-4120-8ECD-D3EE7768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A0726-7F76-47D5-8DAB-BBA1888F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297C6-3D6D-4427-963F-8EED7E26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D7C82-E3DD-4DA3-B9AC-49D3BA90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C277E-58DA-49E3-B8C9-E2FB91B8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3687A-90E4-4662-99CF-E7E338A3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8EC81-E33F-4A21-96FB-1A50E1EE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19C-8792-4AA5-9561-7C6AA51D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75D64-9333-4838-82F6-82C7D24E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629A0-3CC5-4BA7-B024-84E5E02F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58FD4-031A-4721-8935-A85CA3F4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6103D-7EFC-4F2F-BB00-66C3AF13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A301C-2AB8-4A47-BD18-1867B36F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3D7E8-426B-484D-BBC7-B88EAE7F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13B01-2140-4AA7-BBBB-A715DA9A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C5A37-F368-4861-AA4F-0E5CB475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13A7C-E83D-42C1-A2E0-5A171D57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FA495-1639-4FC9-8FA4-0D578FD7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F8F7-27B0-49D2-B5AA-D4A7F034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402E9-7100-48F5-A56D-79AA0801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79F45-C8E8-4EC8-996C-F6855C0C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CDA2E-23F7-42E7-AE54-43535133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51036-F9EA-461D-96A3-C5FBAE4E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54288-3B32-4025-8BEA-41719A99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7C179-E015-4F5B-A306-EAC0E380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3D7CE-B114-4A8A-97B2-832C7A6C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77BE1-9BD3-4BFB-AED7-F2392F46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549C6-C8CB-4FF1-B82D-40A2E08D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5753E-CC2F-47D0-8175-BE5B9AEC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B9D1-0391-44CD-9929-CA92FA22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9D912-3950-4AD7-98AF-7914A05F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825F2-3A07-4379-91D8-D133A467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A3BF1-1205-4925-B22F-1EDB64E4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A493-2367-445C-961A-CD939B68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F873-DAA3-48AA-85A3-B006D8FC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F17C-F3EE-4B2C-B58C-3BBFEEA8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537E-C2BF-4745-B2A2-F2FC396C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EBB0-F865-45F3-AD8F-9259AD7A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A155-70B7-41D8-AD54-E99EF58B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035-92F7-4086-B18E-BB9283B7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8C78-FEB5-4512-A3FD-1A96F550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7E26-7937-4FE7-B224-CDACCD6F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966E-6D00-454B-AB3E-EDCAF12B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068C-80A0-4F80-8742-B3BE4FAB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93D1-6EEF-4EFA-8137-FD28188B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ED1BD-2F1C-4EEB-8447-91A2CB4C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B0D84-D51A-4B72-8A69-69B11467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35D58-3A73-400E-866A-DF5A8F5A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D4A9E-32FA-4E68-87F1-82DAC19E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83F3B-09B1-4B56-82F8-6B94B108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501-C1A4-4ADA-9E7F-AAAC4933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615C9-8E4B-4590-B6EA-ECA2FD72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B0DE1-0CA0-40ED-9667-2A85048A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B03FD-6D3C-4DBF-AD79-4744B01C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91EFD-C6E1-4A5D-A077-E0D09BEC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5A60D-239D-4F81-AF5C-E388F2CA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68B68-E824-40FD-9271-CD2072ED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C08FD-5B72-4DD5-9F28-8E0B2C35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5B772-3697-4C91-A9B5-3EC06FF3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7F180-C44C-4239-99C9-5961F1DC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D1D0B-898B-420F-A77C-CA176029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244-93B9-4170-83ED-6A4DA8EF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11661-35CF-49D3-AD27-721286D2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CCE75-F72C-4ACC-9726-3042CEBD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CA64A-CF68-496E-914E-EDF36F71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ACD94-FD7C-47F3-9BB1-8F0551CA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C35AF-F074-4530-AA48-2877E047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BB696-9B11-4DAE-B37D-CAC56D9D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3752F-2A41-449F-8B97-261D8DAF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1BBBF-149F-4C1F-82F7-AFF51390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8DE3C-1630-4D4C-8F91-B44480C7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DE9B9-F1FB-4746-AD5E-6333940C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7EAD-59CB-4963-B492-A6CC75F2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68207-E240-4811-AAF5-261EACAE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2DB8C-6F7B-4A2A-A8FD-0AF1F06D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72C5A-76CC-4981-B1C6-7BC27BB1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65BFD-4336-4A25-B303-1A9DAD81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06F1C-6252-464E-A7EF-4F40B55F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49C82-5328-4B0D-B864-1F091DC0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327F4-CB22-4390-A285-66ECF57F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A74A1-F4B1-48A6-81A2-7AD2F8D6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0CF69-79A3-4D6C-AE95-20EEB1F5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BFD39-660B-4C1B-80B1-D9CDBE96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222-0DA2-494A-B66D-BCA81332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16884-F5F0-4E4A-BA4A-7290C29F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93251-8746-4ED4-B25A-BA61735D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0BDB3-7E84-45F7-BCFC-1625E392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96823-11CA-4AC8-87FC-1DD2B260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44CE3-D8BC-4552-83F7-46B6347C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0FDCE-0FFB-47BE-93BF-ABCD994D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60512-04C3-4F03-8799-C5F9DE1A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0550F-6991-4A51-B117-A2D0AEBD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C7DF4-719B-4BFD-BB87-7639D1AC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4283C-98BC-4C52-BE72-E98C9CCD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A15-60DB-4CA0-A384-C95032AB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40868-8AB8-4BE3-95D5-942A43FD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5531A-DF9A-44E7-8A34-5904834E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73A8F-B9F8-4232-93E0-7A6812A5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9BD04-C629-4C65-B4A9-4EF22DDD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638A6-A678-4F40-92B3-2A79174E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A6E3D-AC7E-48FE-9857-7140595D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F519B-B494-409D-9691-81C1FB98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256CA-03CE-4050-A9AF-759BFB17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8DD64-1F03-41EC-9478-5330D3F1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653AB-BE67-44C5-AAB2-24DDD042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3C00-7550-4028-92B4-1183302B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486A2-656C-4445-9978-5A9BCCF3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7BE4C-340D-433D-9A86-9FBFB805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597E8-2B3D-4F57-A1E3-D41CEF5F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AE440-57E4-4E6D-A02E-C93CC5B6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CE3DC-0C68-4BB5-AE1A-C054F45D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4F858-3F8E-4144-9414-1563027B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6E5B8-4663-4D3F-AEEA-D092B30C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1E032-98A4-4371-8DB8-FA8F6B59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A8FCE-9DFC-4B51-AF0F-8BFF9558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90023-EA78-4F49-8DD2-A488B60C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B388-5A9E-4F17-8E1C-7318331F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C5FAB-C4EB-4214-91DC-51976EEA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8EDE6-931C-4523-8116-CD1E9D4D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426A3-686A-4373-A093-7FFE4767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BFD83-B6A7-49A7-A756-CFBC3783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4FD37-F521-4238-BD39-D8EF084F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60D7A-6869-4338-A690-3E749761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DF46C-584A-4A33-A339-81CAF39E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40D50-E216-47B3-A3AC-2F07490B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9F3F1-AB7A-42D6-86A6-B04CF0B7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605F2-2810-41A0-AA56-D5B11F84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A21D-6665-4E88-9B94-CF36B020F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601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648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28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ftr" idx="29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sldNum" idx="30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5BE2-B66C-434D-9C9D-08E2EC01DA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44E0-43D7-4472-A101-CF6DFC026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0FE5-165C-4378-ABEE-F5C1A5434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7E1E-2A33-4EB3-9958-325C9C5CCD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20D1-A8C4-4005-ACF3-7842F4D1BE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0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1CCD-9D9F-4ED3-9902-35283264CD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01A1-4539-48E2-BEB8-ECFFE6A90A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392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6D28-8353-4DB4-B84A-EE5F80BBA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38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dt" idx="22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23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24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E340-0F90-4164-A6AA-F3AEA3ACE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487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34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PlaceHolder 3"/>
          <p:cNvSpPr>
            <a:spLocks noGrp="1"/>
          </p:cNvSpPr>
          <p:nvPr>
            <p:ph type="dt" idx="25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6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27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02EA-631A-4E89-B758-72973D90C6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Bookman Old Style"/>
              </a:rPr>
              <a:t>POPULATIONS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3843360" y="2303640"/>
            <a:ext cx="2816280" cy="42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REDICTING POPULATION GROWTH, con’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4c00"/>
                </a:solidFill>
                <a:latin typeface="Tahoma"/>
              </a:rPr>
              <a:t>Logistic model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This model accounts for the declining resources available to populations as they gro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assumes the birth and death rates are not consta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the population grows, births decline and death ris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tually birth=death so the population stops grow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4c00"/>
                </a:solidFill>
                <a:latin typeface="Tahoma"/>
              </a:rPr>
              <a:t>Carrying capacity (K)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number of organisms of one species that an environment can support indefinite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PREDICTING POPULATION GROWTH, con’t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wo modes of population growth.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7775640" cy="470052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358920" y="5734080"/>
            <a:ext cx="42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The Exponential curve (also known as a J-curv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ccurs when there is no limit to population siz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500720" y="5734080"/>
            <a:ext cx="4643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The Logistic curve (also known as an S-curve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hows the effect of a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imiting fac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in this case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arrying capac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the environmen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OPULATION GROWTH STRATEGI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re are 2 ways a population can prosper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pends on the rate of growth (r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fluenced by the carrying capacity (K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OPULATION GROWTH STRATEGIES, con’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c893e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dc893e"/>
                </a:solidFill>
                <a:latin typeface="Arial"/>
              </a:rPr>
              <a:t>-strategists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characterized by exponential growth, which results in temporarily large populations, followed by sudden crashes in population size.  Ex. Insects, bacteria, some plant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ive in unpredictable and rapidly changing environment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eproduce quickly when conditions are favorab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ny offspring: small, mature rapidly, no parental car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= rate of growth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7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OPULATION GROWTH STRATEGIES, con’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c893e"/>
                </a:solidFill>
                <a:latin typeface="Arial"/>
              </a:rPr>
              <a:t>K-</a:t>
            </a:r>
            <a:r>
              <a:rPr b="0" lang="en-US" sz="2800" spc="-1" strike="noStrike">
                <a:solidFill>
                  <a:srgbClr val="dc893e"/>
                </a:solidFill>
                <a:latin typeface="Arial"/>
              </a:rPr>
              <a:t>strategists: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characterized by a high degree of specialization.  Ex. Trees, whales, tigers, etc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ive in stable and predictable environment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an compete effectivel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eproduce late in lif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Few offspring: large, mature slowly, often much parental car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= carrying capacit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7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7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59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POPULATION GROWTH STRATEGIES, con’t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man Populations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K-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rategist characteristic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 recent times however, man has learned to expand the carrying capacity of his environment by increasing food supply, combating pests and curing diseas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an Earth support this increas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amage to the planet will eventually reduce the carrying capacity for humanity and slow the growth of the human populatio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0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98" fill="hold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98" fill="hold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98" fill="hold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770"/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770" fill="hold"/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HOW POPULATIONS EVOLV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harles Darwin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Natural selection causes biological diversity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odern version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opulations contain individuals with different versions of genes called alleles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lleles that improve the chances of survival and reproduction are favored and become more common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hanges are caused by mutations in DNA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Hardy-Weinberg Principl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 1908 G.H. Hardy and Wilhelm Weinberg showed that dominant alleles do not replace recessive one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Hardy-Weinberg Principl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tates: 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populations do not change unless evolutionary forces act upon them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Hardy-Weinberg Principl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cc"/>
                </a:solidFill>
                <a:latin typeface="Arial"/>
              </a:rPr>
              <a:t>Background Information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Recall, it is at the population level that evolution occurs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 population is a group of individuals of the same species in a given area whose members can interbreed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Because the individuals of a population can interbreed, they share 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a common group of genes known as the gene pool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Each gene pool contains all the alleles for all the traits of all the population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For evolution to occur in real populations, some of the gene frequencies must change with time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gene frequency of an allele is the number of times an allele for a particular trait occurs compared to the total number of alleles for that trait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Gene frequency = the number of a specific type of allele / the total number of alleles in the gene pool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Hardy-Weinberg Principle, con’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n important way of discovering why real populations change with time is to construct a model of a population that does not change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s is just what Hardy and Weinberg did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ir principle describes a hypothetical situation in which there is no change in the gene pool (frequencies of alleles), hence no evolution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Times New Roman"/>
              </a:rPr>
              <a:t>POPULATIONS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2195640" y="227628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 Narrow"/>
              </a:rPr>
              <a:t>Popula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all of the individuals of a species that live together in one place at one time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 Narrow"/>
              </a:rPr>
              <a:t>Demography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the statistical study of populations.  It is used to predict how the size of a population will change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Hardy-Weinberg Principle, con’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The frequencies of the alleles will remain unchanged generation after generation if the following conditions are met: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Large population.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The population must be large to minimize random sampling errors. 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Genetic drift, the random change in allele frequency in a population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, can cause great change in small population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Random mating.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There is no mating preference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No mutation.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The alleles must not change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No migration.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Exchange of genes between the population and another population (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gene flow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) must not occur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5. </a:t>
            </a: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No natural selection.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Natural selection must not favor any particular individual. </a:t>
            </a:r>
            <a:br>
              <a:rPr sz="2000"/>
            </a:b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Natural selection is the process by which populations change in response to their environment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Times New Roman"/>
              </a:rPr>
              <a:t>Natural Selection Shapes Populations</a:t>
            </a:r>
            <a:endParaRPr b="0" lang="en-US" sz="36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Natural selection is a powerful agent of genetic change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HOWEVER: there are limits to what it can accomplish because selection does not act directly on genes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Natural selection acts on phenotype, NOT geneotype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THEREFORE: selection against unfavorable recessive alleles is SLOW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Times New Roman"/>
              </a:rPr>
              <a:t>Natural Selection Shapes Populations, con’t</a:t>
            </a:r>
            <a:endParaRPr b="0" lang="en-US" sz="36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 Narrow"/>
              </a:rPr>
              <a:t>Polygenic trait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: A characteristic influenced by several genes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ere are three types of selection on polygenic traits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1. directional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2.  stabilizing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3.  disruptive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Natural Selection Shapes Populations, con’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47640" y="2205000"/>
            <a:ext cx="59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22050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572000" y="22050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524720" y="22050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66560" y="2781360"/>
            <a:ext cx="2305080" cy="7920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Times New Roman"/>
              </a:rPr>
              <a:t>DIRE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419640" y="2781360"/>
            <a:ext cx="2304720" cy="7920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STABILI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372360" y="2781360"/>
            <a:ext cx="2305080" cy="7920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DISRU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547640" y="3573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572000" y="3573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524720" y="3573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68360" y="4005360"/>
            <a:ext cx="2232000" cy="107928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Times New Roman"/>
              </a:rPr>
              <a:t>Favors one extrem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492360" y="4005360"/>
            <a:ext cx="2232000" cy="115236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Favors the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443640" y="4005360"/>
            <a:ext cx="2232000" cy="115236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Favors both ext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en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596360" y="5157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300720" y="5589720"/>
            <a:ext cx="2735280" cy="126828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443640" y="558972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Possible rea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Predators can identify easier and eat the average type org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ffff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ffff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KEY FEATURES OF POPULATIONS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Population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number of individuals in a popu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an important effect on the ability of the population to surv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mall population is more likely to become extin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in the case of random events or natural dis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due to inbreeding where the population is more genetically alike.  Recessive traits are more likely to app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ith reduced variability it is harder to adapt to chan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KEY FEATURES OF POPULATIONS, con’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Population density</a:t>
            </a: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individuals in a give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y are too far apart they may only rarely encounter one another resulting in little reprod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26d18"/>
                </a:solidFill>
                <a:latin typeface="Times New Roman"/>
              </a:rPr>
              <a:t>KEY FEATURES OF POPULATIONS, con’t</a:t>
            </a:r>
            <a:br>
              <a:rPr sz="3200"/>
            </a:b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Population size is limited by:</a:t>
            </a:r>
            <a:br>
              <a:rPr sz="3600"/>
            </a:b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ensity-dependent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ompe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Pred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row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e greater the population, the greater effect these factors ha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x. Black plague in the Middle Ages – more deaths in 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ensity-independent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Volcanic eru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t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l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Drou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hemical pestic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jor habitat disruption (as in the New Orleans floo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ost are abiotic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KEY FEATURES OF POPULATIONS, con’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3.  Disper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ay in which the individuals are arrang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Fig. 6.3"/>
          <p:cNvPicPr/>
          <p:nvPr/>
        </p:nvPicPr>
        <p:blipFill>
          <a:blip r:embed="rId1"/>
          <a:stretch/>
        </p:blipFill>
        <p:spPr>
          <a:xfrm>
            <a:off x="0" y="3116160"/>
            <a:ext cx="9144000" cy="374184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6300720" y="64911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Most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DICTING POPULATION GROW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4c00"/>
                </a:solidFill>
                <a:latin typeface="Tahoma"/>
              </a:rPr>
              <a:t>Model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hypothetical population that has key characteristics of the real population being studi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by demographers to predict how a population will gr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DICTING POPULATION GROWTH, con’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arly all populations will tend to grow </a:t>
            </a:r>
            <a:r>
              <a:rPr b="0" lang="en-US" sz="3200" spc="-1" strike="noStrike">
                <a:solidFill>
                  <a:srgbClr val="724c00"/>
                </a:solidFill>
                <a:latin typeface="Tahoma"/>
              </a:rPr>
              <a:t>exponential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s long as there are resources avail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of the most basic factors that affect the rate of population growth are the birth rate, and the death ra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4c00"/>
                </a:solidFill>
                <a:latin typeface="Tahoma"/>
              </a:rPr>
              <a:t>r(rate of growth)=birth rate – death 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DICTING POPULATION GROWTH, con’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4c00"/>
                </a:solidFill>
                <a:latin typeface="Tahoma"/>
              </a:rPr>
              <a:t>Exponential growth curve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opulation growth plotted against ti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a population gets larger, it also grows at a faster ra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the maximum population growth under ideal circumstanc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ludes plenty of room for each member, unlimited resources (food, water) and no hindrances (predators)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392720" cy="417672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0" y="623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ACT:  No population exhibits this type of growth for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23:09:15Z</dcterms:created>
  <dc:creator>Pati</dc:creator>
  <dc:description/>
  <cp:keywords>POPULATIONS</cp:keywords>
  <dc:language>en-US</dc:language>
  <cp:lastModifiedBy>Dad</cp:lastModifiedBy>
  <dcterms:modified xsi:type="dcterms:W3CDTF">2009-02-01T22:12:32Z</dcterms:modified>
  <cp:revision>56</cp:revision>
  <dc:subject>POPULATIONS</dc:subject>
  <dc:title>POPULATIONS</dc:title>
</cp:coreProperties>
</file>